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C92FB-EF45-44B6-BBBB-6AE46B8111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78662-16B1-41F7-B928-776B1DCA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81721-807C-43E9-BF04-C1E0D9E2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22A74-6C21-4BFA-B6E5-802C57F2FF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3B4D6-AA20-4B2A-B361-2A144EDF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E50AF-C9D7-4848-91FA-F5FD62AC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75AE9-AE50-4F89-946B-11305537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14EB8-592E-409D-A795-C17389262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C55E9-F108-4D79-A57F-C750151C4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23FEE-C7EA-4AFE-A9AD-AEA07163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7EF7E-BD94-49DA-9ECF-0B77AFDD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A407C-74DA-4F1B-B5EE-F284B5CE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782C-9118-4837-B624-41C141DA73F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八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心肺系统疾病的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777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一节  冠状动脉粥样硬化性心脏病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E4BC-7421-4BFF-965D-5718FDF9998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9b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99669b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缺血性心肌病（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ischemic cardiomyopathy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为心肌的血供长期不足，心肌组织发生营养障碍和萎缩，或大面积心肌梗死后，纤维组织增生所致。其临床特点为大多有心绞痛或心肌梗死病史，心脏逐渐扩大，发生心律失常和心力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C4BA-FC71-42B1-BC98-61DFE92F3D6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猝死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sudden deat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：在动脉粥样硬化的基础上，发生冠状动脉痉挛或栓塞，导致心肌急剧缺血，引起短暂的严重性心律失常所致，及时的心脏复苏抢救措施可挽救患者生命。但一些急性心肌梗死并发心脏破裂的患者，心肌梗死的症状极不明显，常因心脏破裂而迅速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3DED-DDB8-4C27-AD05-A4F4C3C294E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血管功能障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缺乏运动本身可导致心血管功能减退，在冠心病发病后，患者往往因减少或缺少体力活动而导致心血管系统适应性降低，引起循环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D870-66A8-4934-BC19-6B774A45412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呼吸功能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长期的心血管功能障碍均会伴随不同程度的肺循环功能障碍，使肺血管和肺泡气体交换的效率降低，吸氧能力下降，进一步诱发或加重缺氧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C3EB-F84B-49A8-90E9-0B681EAD605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全身运动耐力减退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全身耐力减退与年龄增长有关，而冠心病加重了年龄相关的全身运动耐力减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冠心病可导致机体吸氧能力减退、肌肉萎缩和氧代谢能力下降，从而限制了全身运动耐力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4D3B-47D8-4B94-92B3-5BE854F5BA5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代谢功能障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主要是脂质代谢和糖代谢。脂质代谢障碍主要表现为胆固醇和三酰甘油增高，高密度脂蛋白胆固醇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缺乏运动还可导致胰岛素抵抗，除了引起糖代谢障碍以外，还可促使形成高胰岛素血症和血脂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ED91-1B28-4A6A-AABE-1C97F763FB7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行为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影响患者日常生活和治疗的重要因素，往往是不良的生活习惯和心理、情绪等方面的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A45F-3E21-4D3D-B981-D12B1EC4C5A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身体评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的一般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家族史与既往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药物的疗效和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绞痛、心肌梗死情况评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4D06-837F-4D60-8589-5F6D06203AB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心电运动负荷试验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Electrocardiography exercise test,ECG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指通过一定量的运动增加心脏负荷，使心脏储备力进入最大或失代偿状态，诱发生理或病理反应，观察心电图变化，从而评估冠心病患者心功能情况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C42C-0C93-4441-9FF8-541AA46DA94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电运动负荷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按终止标准分类，心电运动负荷试验分为症状限制性运动试验、低水平运动试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按运动方式分类，心电运动负荷试验包括活动平板试验、踏车运动试验、手摇车运动试验、等长收缩运动试验、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分钟步行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629080" y="49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763640" y="5302080"/>
            <a:ext cx="719280" cy="665280"/>
          </a:xfrm>
          <a:prstGeom prst="hexagon">
            <a:avLst>
              <a:gd name="adj" fmla="val 27029"/>
              <a:gd name="vf" fmla="val 1154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844720" y="58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1FB8-19C5-40AE-A7EC-8E8B2FF93EA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超声心动图运动试验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超声心动图可以直接反映心肌活动，揭示心肌收缩和舒张功能，同时反映心脏内血液变化情况，有利于提供运动心电图不能显示的重要信息。检查方式一般选用卧位踏车、活动平板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B1A7-6A2C-40F0-ABBC-2845C2D83FF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代谢当量（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metabolic equivalent,MET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是以安静、坐位时的能量消耗为基础，表达各种活动时相对能量代谢水平。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1METs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相当于耗氧量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3.5ml/(kg.min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代谢当量主要运用于判断体力活动能力及预后、判断心功能及相应的活动水平、制订运动处方、指导日常生活活动与职业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587D-5318-4A1A-9599-EE1065F541B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功能评定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纽约心脏病学会功能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步行试验判断心衰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③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Borg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主观劳累程度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CC7C-F2EB-4125-8A60-A42EB5C6B3B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0010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四、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根据冠心病康复治疗的特征，国际上将康复治疗分为三期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    Ⅰ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（院内康复期）：指急性心肌梗死或急性冠脉综合征住院期康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Ⅱ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(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院外早期康复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)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：该期康复为冠心病康复的核心阶段，包括陈旧性心肌梗死、稳定型心绞痛及隐性冠心病等患者的康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Ⅲ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（院外长期康复）：指病情长期较稳定，或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Ⅱ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过程结束的冠心病患者，为巩固与维持已形成的健康生活方式和运动习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1A5D-FDE9-45BD-A94B-524694D9FAC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Ⅰ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期康复计划参考标准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过去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小时内没有新发或再发胸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肌损伤标志物水平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(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Times New Roman"/>
              </a:rPr>
              <a:t>CK-MB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和肌钙蛋白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没有进一步升高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无明显心力衰竭失代偿征兆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(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静息时呼吸困难伴湿啰音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过去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</a:rPr>
              <a:t>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内没有新发严重心律失常或心电图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574560" y="304920"/>
            <a:ext cx="8001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期康复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9BDA-B079-4345-81E0-BAF8352FD54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期康复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运动量宜控制在静息心率增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0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左右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同时患者感觉不大费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 Borg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评分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&lt; 12 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。如果运动或日常活动后心率增加大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0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感觉费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宜减少运动量或日常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28DF-B2E5-412A-920E-7CEF4EE5C1B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52360" y="1752480"/>
            <a:ext cx="83152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2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）活动：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病情稳定后，可进行床上的肢体活动。先活动远端肢体的小关节强调活动时呼吸自然、平稳，没有任何憋气和用力的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然后逐步做抗阻活动，例如捏气球、皮球或拉皮筋等。避免举重、攀高、挖掘等剧烈活动；避免各种竞技性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3CE7-9B8C-48C1-9214-3CB9C330B98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呼吸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主要指腹式呼吸，在吸气时腹部隆起，让膈肌尽量下降；呼气时腹部收缩，将肺部的气体尽量排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呼气与吸气之间要均匀连贯，可以比较缓慢，但不可憋气，呼气与吸气之比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: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D9F8-C1D4-4A4C-A22E-82034E0F85C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坐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从第一日就开始。开始坐时可以有依托，如床头抬高，将枕头或被子放在背后在适应有依托坐位之后，患者应逐步过渡到无依托独立坐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67D9-4AC3-4DFB-89C3-F73DF9A99F3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步行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完成无依托独立坐位训练后，开始床边站立训练。在站立无问题后，开始床边步行，以便在疲劳或不适时能够及时上床休息，逐步过渡到病室内步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F420-4A08-4FD2-A201-E50A157625E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及冠心病康复的定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的常见类型及主要功能障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不同类型冠心病的典型临床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评估冠心病患者主要功能障碍并为其制订康复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74EE-B533-4421-82C1-D2B5D220C24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上下楼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完成病室内步行训练后，可适当进行上、下楼活动。下楼的运动负荷不大，而上楼的运动负荷主要取决于上楼的速度，保持非常缓慢的上楼速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CAF6-DE88-4C0B-9F87-D7A7631EA27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排便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卧位排便由于臀部位置抬高，回心血量增加，使心脏负荷增加，同时由于排便时须克服体位所造成的重力，需要额外的用力。因此，提倡在床边放置简易坐便器，让患者坐位排便。但禁忌蹲位排便或在排便时过分用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7BDF-0674-4DFA-B25C-7E86F5FABE1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563640" y="306000"/>
            <a:ext cx="501156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娱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在病情许可的范围内，可以进行有轻微体力活动的娱乐，但要避免气喘和疲劳，如室内外散步、园艺活动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0536-998B-4CBB-9871-A8460190FED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康复方案调整与监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或活动时心率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&lt;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，次日训练可进行下一阶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中心率增加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左右，则需继续进行同一级别的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心率增加超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，或出现任何不良反应，则应返回到前一阶段的运动级别，甚至暂时停止运动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7512-436E-4BE2-A578-5FB78D3BA9F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健康教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告知患者冠心病相关知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避免不必要的紧张、焦虑情绪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控制冠心病危险因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特别强调低盐低脂的饮食、健康的生活方式、个性修养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723C-3019-4F00-AB44-4490C11EB2B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院计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患者在心电监护下步行，若持续步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0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无症状且心电图无异常，可遵医嘱安排患者出院。患者出现并发症或运动试验异常需进一步检查，并适当延长住院时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客观评估患者出院前运动能力，给予出院后的日常生活及运动康复的指导，但出院后发生任何不适均应暂停活动，并按时复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FA4F-EE6E-458E-84B7-3C53988F501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期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此期除进行日常活动指导、心理支持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增加了每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~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心电血压监护下的中等强度运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包括有氧运动、阻抗运动、柔韧性训练等。此期在家庭活动中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D760-5464-4124-A038-12AEB35207C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准备活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多采用低水平有氧运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持续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~ 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。目的是放松和伸展肌肉、提高关节活动度和心血管的适应性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防运动性损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9F6B-9E0A-40CA-841B-94FA1FDD6CF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训练阶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包含有氧运动、阻抗运动、柔韧性训练等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总时间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~ 9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分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6814-A6BD-4370-8AA6-C0B21C674C4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l)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有氧运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常见的有氧训练方式包括行走、慢跑、上下楼梯等。 建议训练时间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开始。运动频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~ 5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为最大运动强度的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~ 80%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体能差的患者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水平设定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；体能好的患者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设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E1A6-257E-4572-B234-114DC38802E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2360" y="333000"/>
            <a:ext cx="8001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冠心病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黑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黑体"/>
              </a:rPr>
              <a:t>coronary atherosclerotic heart disease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黑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是指冠状动脉粥样硬化使血管腔狭窄或阻塞，或（和）因冠状动脉功能性改变（痉挛）导致心肌缺血缺氧或坏死引起的心脏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6568-8BC2-4256-80B0-8D08D9614A6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有氧活动确定运动强度的方法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心率储备法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目标心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=(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最大心率一静止心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) x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%+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静止心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②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靶心率法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在静息心率的基础上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~ 3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体能差的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体能好的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自我感知劳累程度分级法：通常建议患者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2~16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范围内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6E63-BA09-4475-839A-D56AF6A06FD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) 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阻抗运动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阻抗运动形式多为循环阻抗力量训练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即一系列中等负荷、持续、缓慢、大肌群的阻抗力量训练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常用的方法有利用自身体重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(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如俯卧撑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)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、哑铃或杠铃、运动器械以及弹力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0A02-EEB9-4048-858A-7171A261253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阻抗运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初始推荐强度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上肢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l-RM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%~40%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下肢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~6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org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评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1~13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。切记运动过程中用力时呼气，放松时吸气，不要憋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25F5-1B1C-44EF-AE74-771DA86E517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柔韧性训练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每一个部位拉伸时间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~1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逐渐增加到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若耐受可增加到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9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强度为有牵拉感觉同时不感觉疼痛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每个动作重复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~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总时间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左右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每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~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CA24-318C-49AC-B948-A09CD811658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放松运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放松方式是慢节奏有氧运动的延续或是柔韧性训练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根据患者的病情轻重可持续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~ 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病情越重放松运动的持续时间宜越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0B66-7F17-4917-9098-4642CA69EF9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日常生活指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指导患者在锻炼中掌握自我监测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观察项目包括心率、心律、血压、呼吸、主观用力程度以及有无用力失耐受的症状和体征，以保证在安全范围内达到和保持运动处方所规定的运动水平，适时终止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FD65-6D8F-4017-AE50-41761BB843D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日常生活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指导患者性功能康复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在一般情况下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建议患者出院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~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周后可以重新开始性生活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CABG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~8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①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上二层楼试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观察患者能否完成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~6MET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活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435D-C8B5-470C-93C1-34E204B2690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010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日常生活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①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选择适当的运动，避免竞技性运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感冒或发热，在症状和体征消失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日以上再恢复运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③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避免在阳光下和高气温时剧烈运动，寒冷和炎热天气时相对降低运动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④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患者定期在康复医师的指导下检查和修正运动处方，避免过度训练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⑤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训练必须持之有恒，如间隔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~7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日以上，再开始运动前需进行相应评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D7BB-71F8-436C-B5A7-1CBFC312C59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56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低危患者的运动康复无需医学监护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仍为中危甚至高危患者的运动康复中仍需要医学监护。低危患者及部分中危患者可以进一步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Ⅲ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期康复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高危患者及部分中危患者应转上级医院继续康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此期患者仍需控制危险因素，改善体力活动能力和心血管功能，提高患者参与并坚持康复的主动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4B76-3A6D-4B3D-BA2D-6BD0C36643F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800100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577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健康宣教  向患者及家属介绍冠心病药物治疗和康复训练的重要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饮食指导   指导患者进食低脂、富含纤维素、易消化饮食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心理评估  评估患者有无焦虑、孤单、抑郁、情绪易激动等心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用药指导   帮助患者掌握服用硝酸甘油的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为冠心病患者提供有关性生活方面指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FD43-3F10-450A-A709-45A3D81AC41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68440" y="1752480"/>
            <a:ext cx="83246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二）流行病学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   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冠心病是动脉粥样硬化导致器官病变的最常见类型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，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也是严重危害人类健康的常见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   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本病出现症状或致残、致死后果多发生在</a:t>
            </a:r>
            <a:r>
              <a:rPr b="1" lang="en-US" sz="2600" spc="-1" strike="noStrike">
                <a:solidFill>
                  <a:srgbClr val="1d1496"/>
                </a:solidFill>
                <a:latin typeface="黑体"/>
                <a:ea typeface="黑体"/>
              </a:rPr>
              <a:t>40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岁以后，男性发病早于女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在我国，冠心病发病率和病死率近年来呈增长趋势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D0D6-C0FD-4FE2-8FA9-7C56E812423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0100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患者，男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62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岁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7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天前因“无明显诱因出现持续性压榨性胸痛”入院，疼痛部位主要位于胸骨体中段并放射至心前区，休息和含服硝酸甘油均不能缓解，伴有气促，濒死感、恐惧感。原发性高血压史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0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年，平素血压波动在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30~180/70~110mmHg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，规律服用降血压药物。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II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型糖尿病病史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年，仅用饮食疗法。入院时查体发现：口唇发绀，颈静脉怒张，左侧肺底中水泡音，心界向左下扩大。心电图示：异位心律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V1~V3 ST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段抬高，偶发室性期前收缩。实验室检查白细胞计数增高、红细胞沉降率增快，肌钙蛋白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Ⅰ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、肌红蛋白增高。目前患者病情平稳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P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86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R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9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BP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36/80mmHg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试分析：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该患者目前处于冠心病康复治疗的哪期，应如何指导患者进行康复运动？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应从哪些方面对患者进行健康宣教，以促进患者的康复及预防二次发作？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0102-7078-4748-89E8-6ACBD331B33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三）临床表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心绞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①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稳定型心绞痛（</a:t>
            </a:r>
            <a:r>
              <a:rPr b="1" lang="en-US" sz="2600" spc="-1" strike="noStrike">
                <a:solidFill>
                  <a:srgbClr val="1d1496"/>
                </a:solidFill>
                <a:latin typeface="Times New Roman"/>
                <a:ea typeface="宋体"/>
              </a:rPr>
              <a:t>stable angina pectoris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：阵发性的前胸压榨性疼痛或憋闷感觉，主要位于胸骨体中段或上段之后，可放射至心前区和左上肢尺侧，持续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3~5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分钟后逐渐消失，休息或舌下含服硝酸甘油制剂后消失，劳累、情绪激动、饱食、受寒等为其常见的诱因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4078-E828-4370-BC37-80E8CBEEE10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心绞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不稳定性心绞痛（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unstable angina,UA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：这类心绞痛有发展至心肌梗死的高度危险性。其胸痛的部位、性质与稳定型心绞痛相似，原为稳定型心绞痛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个月内疼痛发作的频率增加、时限延长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程度加重、硝酸类药物缓解作用减弱，休息时或较轻微活动即可诱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3AB2-FC69-493A-90B3-331F7FA7C95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心肌梗死（</a:t>
            </a:r>
            <a:r>
              <a:rPr b="1" lang="en-US" sz="2600" spc="-1" strike="noStrike">
                <a:solidFill>
                  <a:srgbClr val="1d1496"/>
                </a:solidFill>
                <a:latin typeface="Times New Roman"/>
                <a:ea typeface="宋体"/>
              </a:rPr>
              <a:t>myocardial  infarction,MI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：其疼痛部位和性质与心绞痛相同，但诱因多不明显，且常发生于安静时，程度更重，持续时间更长，可达数小时或更长，休息和含服硝酸甘油多不能缓解，疼痛剧烈时常伴有不同程度的恶心呕吐、上腹胀痛。全身症状表现为发热、心动过速、白细胞增高和红细胞沉降率增快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3D59-F032-4D43-99C3-ABF49951641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无症状性心肌缺血（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silent myocardial ischemia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：该病无临床症状，但在体格检查时发现心电图有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ST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段压低、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T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波倒置，或放射性核素心肌显像示心肌缺血。它可突然转化为心绞痛或心肌梗死，亦可逐渐演变为缺血性心肌病，发生心律失常或心力衰竭，个别患者亦可猝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10:24:11Z</dcterms:modified>
  <cp:revision>1</cp:revision>
  <dc:subject/>
  <dc:title>        第八章  心肺系统疾病的康复护理</dc:title>
</cp:coreProperties>
</file>